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A5F-130F-490A-A3B6-15333751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62F-3731-4C0F-AE60-7FFF6662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826-2787-4D20-9AB8-56A3B16D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6DB-2759-4F2D-AA8E-140C8940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F56-6052-4143-9647-2FF88BA8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991-EFDB-4906-94F2-7FB72AE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C8A-4918-4E3A-B8A5-74D6766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E8F-0F9E-4255-A6C3-B084BFE6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1FC-01DA-4451-9C73-D99BF2F4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E24-55F7-43DF-84AD-7E81D90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EEE-00F7-471F-940F-0901493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F74-EAB7-493F-8359-8A51774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465745-4456-4EB1-9AF5-C0C4CED89CA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esk.jkhsakha.ru/documents/22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трукция: Возврат и перенос денежных средств, зарегистрированных по правилам 54-ФЗ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аблицы, используемые при оформлении возв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kv2022]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  <a:ea typeface="Consola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dbo]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  <a:ea typeface="Consola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sbrf_no_kv_refunds] - таблица для хранения переносов и возвратов оплат, поступивших через СбербанкОнлайн и Эквайрин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fz54_details]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  <a:ea typeface="Consola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dbo]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  <a:ea typeface="Consola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payment_details] — таблица сформированных тел чеков для регистрации в АтолОнлай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fz54_details]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  <a:ea typeface="Consola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dbo]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  <a:ea typeface="Consola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refunds] — таблица тел чеков, подготовленных для возвр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fz54_details]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  <a:ea typeface="Consola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dbo]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  <a:ea typeface="Consola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[prepayment_details] — таблица детализации квитанций сформированных программой «Квартплата» для дальнейшего формирования тела ч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Описание полей таблиц смотреть в документе «Полное описание 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onsolas"/>
              </a:rPr>
              <a:t>таблиц участвующих при оформлении возврата(переноса) чеков по ФЗ5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ea typeface="Consolas"/>
                <a:hlinkClick r:id="rId1"/>
              </a:rPr>
              <a:t>Описание структуры таб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olas"/>
                <a:ea typeface="Consolas"/>
              </a:rPr>
              <a:t>Структура таблицы для хранения переносов и возвратов оплат, поступивших через СбербанкОнлайн и Эквайринг</a:t>
            </a:r>
            <a:r>
              <a:rPr b="1" lang="ru-RU" sz="25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brf_no_kv_refunds</a:t>
            </a:r>
            <a:endParaRPr b="1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kod_adres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номер л/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corrected_kod_adres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указывается номер л/с на который будет произведен перенос средств с kod_adres. В случае возврата corrected_kod_adres= kod_adr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plat_no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ссылка на номер платежа в таблице [sbrf]</a:t>
            </a:r>
            <a:r>
              <a:rPr b="0" lang="ru-RU" sz="1200" spc="-1" strike="noStrike">
                <a:solidFill>
                  <a:srgbClr val="808080"/>
                </a:solidFill>
                <a:latin typeface="Consolas"/>
                <a:ea typeface="Consola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dbo]</a:t>
            </a:r>
            <a:r>
              <a:rPr b="0" lang="ru-RU" sz="1200" spc="-1" strike="noStrike">
                <a:solidFill>
                  <a:srgbClr val="808080"/>
                </a:solidFill>
                <a:latin typeface="Consolas"/>
                <a:ea typeface="Consola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plat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no_kv] 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— номер квитанции, по которому производится перенос или возв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corrected_no_kv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номер квитанции, который отождествляет собой перенос или возврат. В случае возврата — это номер возврата(сторно), в случае переноса номер конечного переноса (не сторно). Например: Для осуществления переноса нам требуется отсторнировать операцию с изначальным номером no_kv = 20001, предположим номер сторно операции будет no_kv = 20008. При переносе на другой лицевой счет в таблице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kv2022..post_t 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был присвоен no_kv = 200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13. 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Тогда в таблиц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[kv2022]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[dbo]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[sbrf_no_kv_refunds] 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no_kv будет равен 20008, а  corrected_no_kv = 200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13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no_gash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номер гашения, присвоенный no_kv. Важен для проведения параллелей с plat_no, если по каким-либо  причинам связи установить не удалос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month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месяц в котором производилась корректиро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vid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вид платежа по классификации [sbrf]</a:t>
            </a:r>
            <a:r>
              <a:rPr b="0" lang="ru-RU" sz="1200" spc="-1" strike="noStrike">
                <a:solidFill>
                  <a:srgbClr val="808080"/>
                </a:solidFill>
                <a:latin typeface="Consolas"/>
                <a:ea typeface="Consola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dbo]</a:t>
            </a:r>
            <a:r>
              <a:rPr b="0" lang="ru-RU" sz="1200" spc="-1" strike="noStrike">
                <a:solidFill>
                  <a:srgbClr val="808080"/>
                </a:solidFill>
                <a:latin typeface="Consolas"/>
                <a:ea typeface="Consola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plat](0 — СберОнлайн, 2 — Эквайрин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final_transaction](логический тип)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идентификатор конечной операции. В том случае, если производится возврат, корректировка производится в один шаг, и операция с номером corrected_no_kv является финальной транзакцией. Для случая переноса средств требуется произвести 2 транзакции: возврат и перенос. Тогда логика работы будет следующа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для операции с номером no_kv будет произведен возврат, ссылка на сам возврат нам не потребуется. Т.  к. разбивка остается неизменной нам потребуется только ссылка на изначальную опер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для операции с номером corrected_no_kv будет создана новая разбивка в [fz54_details]</a:t>
            </a:r>
            <a:r>
              <a:rPr b="0" lang="ru-RU" sz="1200" spc="-1" strike="noStrike">
                <a:solidFill>
                  <a:srgbClr val="808080"/>
                </a:solidFill>
                <a:latin typeface="Consolas"/>
                <a:ea typeface="Consola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dbo]</a:t>
            </a:r>
            <a:r>
              <a:rPr b="0" lang="ru-RU" sz="1200" spc="-1" strike="noStrike">
                <a:solidFill>
                  <a:srgbClr val="808080"/>
                </a:solidFill>
                <a:latin typeface="Consolas"/>
                <a:ea typeface="Consola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pre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payment_details], а так же новое тело чека в [fz54_details]</a:t>
            </a:r>
            <a:r>
              <a:rPr b="0" lang="ru-RU" sz="1200" spc="-1" strike="noStrike">
                <a:solidFill>
                  <a:srgbClr val="808080"/>
                </a:solidFill>
                <a:latin typeface="Consolas"/>
                <a:ea typeface="Consola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dbo]</a:t>
            </a:r>
            <a:r>
              <a:rPr b="0" lang="ru-RU" sz="1200" spc="-1" strike="noStrike">
                <a:solidFill>
                  <a:srgbClr val="808080"/>
                </a:solidFill>
                <a:latin typeface="Consolas"/>
                <a:ea typeface="Consola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payment_details].Принимает значение 1 — при возврате, 0 — при перенос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is_taken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признак обработанной операции. Если принимает значение 1, значит все требуемые операции были произведе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[previous_data_gash]</a:t>
            </a:r>
            <a:r>
              <a:rPr b="0" lang="ru-RU" sz="1200" spc="-1" strike="noStrike">
                <a:solidFill>
                  <a:srgbClr val="000000"/>
                </a:solidFill>
                <a:latin typeface="Consolas"/>
                <a:ea typeface="Consolas"/>
              </a:rPr>
              <a:t> — в случае возвратах в архивных годах указывается та дата гашения, которая была присвоена в архиве. Требуется для идентификации платежа, если установить иных связей не возможно(трудоем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Формирование возврата чека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503280" y="2103480"/>
            <a:ext cx="7086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 формировании чека возврата следует придерживаться следующего принцип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47640" y="2390760"/>
          <a:ext cx="9290160" cy="5110200"/>
        </p:xfrm>
        <a:graphic>
          <a:graphicData uri="http://schemas.openxmlformats.org/drawingml/2006/table">
            <a:tbl>
              <a:tblPr/>
              <a:tblGrid>
                <a:gridCol w="4643640"/>
                <a:gridCol w="4646520"/>
              </a:tblGrid>
              <a:tr h="30492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758880">
                <a:tc>
                  <a:txBody>
                    <a:bodyPr lIns="90000" rIns="90000" tIns="6012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. Формирование возврата(сторно) на стороне ПО «Квартплата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 не зависимости от причин возникновения чека возврата первостепенно оформляется операция на стороне ПО «Квартплата», т. к. для дальнейшей работы нам потребуются ссылки на операции, которые могут потребоваться для дальнейшей аналитики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38240"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. Заполнение параметров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brf_no_kv_refund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Нас интересует вновь присвоенный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_k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, а так же ряд указателей на таблицу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brf..plat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. Это может быть необходимо для определения пути поступления денежных средств, а так же может быть важно в тех случаях, когда мы не имеем указателей на  зарегистрированный чека в базе fz54_details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ажн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помнить, что в случае оформления чека возврата значение поля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final_transaction=1!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Значение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orrected_kod_adres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установить равны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kod_adre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230200"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. Формирование таблицы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fz54_details</a:t>
                      </a: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Consolas"/>
                          <a:ea typeface="Lucida Sans Unicode"/>
                        </a:rPr>
                        <a:t>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dbo</a:t>
                      </a: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Consolas"/>
                          <a:ea typeface="Lucida Sans Unicode"/>
                        </a:rPr>
                        <a:t>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refund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При возврате достаточно клонировать запись из таблицы тел чеков (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fz54_details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dbo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payment_details]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) в таблицу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fz54_details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dbo].[refunds]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с указанием ряда дополнительных параметров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rrorCod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– устанавливается путем выявления причин возврата. Является дополнительным аналитическим полем и может принять значение 4 – Иная причин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ayOnPrpa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– см. Описание таблиц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KvOnPrpa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– см. Описание таблиц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Так же отмечаем, что значение следующих полей должны принять значени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s_refund = 1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s_taken=0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При этом уникальный идентификатор операци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externa_id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требуется изменить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, т.к. поторная регистрация с ранее зарегистрированным идентификатором невозможн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77960"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. Регистрация возвра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На основании данных в таблице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fz54_details</a:t>
                      </a: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bo</a:t>
                      </a: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efunds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происходит регистрация чека в АтолОнлай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формление переносов оплат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2860560"/>
          <a:ext cx="9289800" cy="4695840"/>
        </p:xfrm>
        <a:graphic>
          <a:graphicData uri="http://schemas.openxmlformats.org/drawingml/2006/table">
            <a:tbl>
              <a:tblPr/>
              <a:tblGrid>
                <a:gridCol w="4643280"/>
                <a:gridCol w="4646520"/>
              </a:tblGrid>
              <a:tr h="30420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ЭТАПЫ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0440">
                <a:tc>
                  <a:txBody>
                    <a:bodyPr lIns="90000" rIns="90000" tIns="6012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. Формирование возврата(сторно) на стороне ПО «Квартплата»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 ПО «Квартплата» формируется две операции: «Возрат» с л/с на который ранее поступили деньги и «Приход» на тот л/с, куда деньги будут перенесены. Нас интересует только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_kv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переноса, возврат будет сформирован самостоятельн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234800"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. Заполнение параметров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brf_no_kv_refund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Заполнение таблицы в этом случае происходит аналогично п.2 при возврате, но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важн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помнить, что в случае оформления чека переноса значение поля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final_transaction=0!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Это будет означать, что нам потребуется создать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 2 операц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при оформлении движений в баз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 fz54_detail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.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Значение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orrected_kod_adres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установить равны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значению идентификатора л/с на который был произведен перенос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133720"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. Формирование таблицы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fz54_details</a:t>
                      </a: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Consolas"/>
                          <a:ea typeface="Lucida Sans Unicode"/>
                        </a:rPr>
                        <a:t>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dbo</a:t>
                      </a: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Consolas"/>
                          <a:ea typeface="Lucida Sans Unicode"/>
                        </a:rPr>
                        <a:t>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olas"/>
                          <a:ea typeface="Lucida Sans Unicode"/>
                        </a:rPr>
                        <a:t>refund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Первоочередно будет оформлен возврат, путем клонирования записи из таблицы тел чеков (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fz54_details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dbo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payment_details]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) в таблицу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fz54_details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dbo].[refunds]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с указанием ряда дополнительных параметров аналогично п.3 описания возвра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Так же отмечаем, что значение следующих полей должны принять значени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s_refund = 1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s_taken = 0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При этом уникальный идентификатор операци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externa_id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требуется изменить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, т.к. поторная регистрация с ранее зарегистрированным идентификатором невозможн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!Требуется создать дополнителную детализацию платежа в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fz54_details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dbo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prepayment_details]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используя номер перенос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[corrected_no_kv]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и на ее основании сформировать тело чека прихода в таблице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fz54_details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dbo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payment_details]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. Значени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s_refund = 0; is_taken = 0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5480"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. Регистрация возвра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На основании данных в таблиц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fz54_details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dbo]</a:t>
                      </a:r>
                      <a:r>
                        <a:rPr b="1" lang="ru-RU" sz="1000" spc="-1" strike="noStrike">
                          <a:solidFill>
                            <a:srgbClr val="808080"/>
                          </a:solidFill>
                          <a:latin typeface="Arial"/>
                          <a:ea typeface="Lucida Sans Unicode"/>
                        </a:rPr>
                        <a:t>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[payment_detail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происходит регистрация чека в АтолОнлай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40"/>
          <p:cNvSpPr/>
          <p:nvPr/>
        </p:nvSpPr>
        <p:spPr>
          <a:xfrm>
            <a:off x="647640" y="1979640"/>
            <a:ext cx="9387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нцип формирования переноса средств с одного л/с на другой имеет не мал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щего с процедурой формирования возврата и отличается, в основном, лишь дополнительной транзакцией на регистрацию нового чека прих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8T12:30:40Z</dcterms:created>
  <dc:creator/>
  <dc:description/>
  <dc:language>en-US</dc:language>
  <cp:lastModifiedBy>Пользователь Windows</cp:lastModifiedBy>
  <dcterms:modified xsi:type="dcterms:W3CDTF">2022-05-26T04:13:42Z</dcterms:modified>
  <cp:revision>3</cp:revision>
  <dc:subject/>
  <dc:title>Инструкция: Возврат и перенос денежных средств, зарегистрированных по правилам 54-ФЗ</dc:title>
</cp:coreProperties>
</file>